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12F-A54D-483E-85E6-781EF151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185-A2C2-4142-ABFE-865E613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D0F-963A-4A50-A1B9-2346E073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612-0774-4BD8-A7D9-8B910616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3FF-E466-4CA8-977E-5B3EDF0B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C6BE-AEB7-4180-84FC-43F0803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95C6-3D03-4B18-89F2-0562CEEE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F88-8222-4902-8489-22BCD27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ABB-3C1C-4396-B241-929ECC4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033-7163-4484-99BD-F98B4FA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0C7-3839-406D-8971-4A483F9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5E1-6ED6-4067-AA83-82F898D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A21-D1C9-48AE-96AD-D20255B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26B-57DD-423D-B57C-51264E2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93D-3E0D-4FA5-9E9E-77003465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FF9-6614-4D12-9E71-E98608F7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D5A-36FD-4563-B36A-F9C27AA2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3009-0C26-4349-95D2-A91F8E3B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19DA-8EE4-44AB-B6EA-F281193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B9BF-3B51-4FD0-8EF5-32D8200F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9AC6-5FB2-4A79-A74A-F6FDF105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A01C-37A3-46C2-8827-F5DD5FF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117-4BE5-42CD-9935-2C64855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37DD-CF8D-4370-B756-55A2C81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1F1C-811C-40E1-A460-C006628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54EA-2BCD-4159-86C3-ABEEB1E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8923-263F-46B2-A1A6-CA3AD5F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AA54-6536-435B-9096-497397CF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FE0C-1DBD-402D-8739-40B92B2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AEB1-3F15-4970-BD63-373477EA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86C4-82E7-49DD-819F-6795E98E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5D7A-0239-45B8-8460-B4A2A48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3AED-0429-48CB-BB83-6E70117F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CE4-214B-41CC-A91D-C18D66B8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53EB-D763-45C6-9931-F4FCFAC4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7383-7F60-44FA-895C-F7ABBB6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FF9B-4E53-4BF2-856B-C47D24F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4D04-E705-4558-B004-4B28810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F936-C80A-4AF4-95BA-1B05317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323F-99F7-4A01-B7F2-C9C0FEA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1071-F1AE-403E-999D-7A0AAA2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80D6-A36C-4ED5-8E40-C00E18B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22D0-6789-4121-B1FF-D6CC3249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6DD4-6A06-4071-92B6-59B8373C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F6B-4588-47F1-BBCC-D34552F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E3AE-1790-438C-A05B-419FECD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F8AD-DBF3-44F9-9785-B272B607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615D-291B-45D8-B1D9-A3822869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F9CE-5389-4A93-BD91-CF710F3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BEF0-BD23-4D4A-B178-9626903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BAFF-AA24-4716-9BB6-A5F43BF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09AB-366F-4197-9A55-35BB33A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0B87-47DC-4FE8-A447-33F9D23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33DB-71D8-40CE-9554-6779CBF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223B9-4D45-49EB-9339-69765047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76D-C25F-49BA-86EC-1C793C29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B01A-27AA-445F-AEBB-A264554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9ADA-510D-4C01-915D-4C0353DC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4648-867F-45E2-99EF-8CA369B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A967-2BF5-46E1-AB8E-EBD07EE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7C33-52AA-4292-A6A1-7A49093A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D73A-963B-4FD8-9368-12A05E3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112E-6D51-4B6D-9F88-9D3347A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B66E-1849-43F9-AD89-0FAB713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B51E-CCC0-4097-A389-289F423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DE93-4963-4E3A-A87D-48EF7F7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4AE-C044-41B3-8987-B361DB7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C325-7919-4D95-B013-3D3A005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7227-252D-40EA-8540-186B9CE6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3860-A346-47FF-BC6B-ABDA0199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6C5F-5B15-43AA-91A8-74EBA232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93DD-C734-4167-B486-0BCAD1C7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8BEB-CE24-4A43-B1CF-C45FB31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ED7EC-52B0-4011-8D72-0B86999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8F97A-DF76-4A33-8838-8F0965B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6BE2-AE27-48F7-804B-ECC16CC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8D50-01ED-42EC-95F5-5BF3BE7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512-C8E8-40E0-8464-CB73D4D8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2FA5-E690-4738-BB5A-61C54ED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6B7F-7664-4103-8A47-1D49119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930C-D06C-43E4-894E-17755AE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212D-2747-4F35-A673-56659254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1852-1B5B-41F8-92A8-11475DC6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D5F-B45E-4FD5-8F3D-B4D3385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DDC-800D-48EC-826D-BB6BE78980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AF00-385D-4689-B0C1-FB3A1E4E2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08A-19D5-4A3F-AEE3-5A0760C31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FF0-6964-410B-BCC0-7C038F18DE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57F-2135-4F1B-9077-DA12D67E37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011-9847-4265-97EF-D4E7C46F45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A34-D6DE-4FCC-893C-B049476976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5645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effects of the Great Depression on the American people in the 1930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http://www.autolife.umd.umich.edu/Design/Gartman/D_Casestudy/ID74271_2_depression_apples.gif"/>
          <p:cNvPicPr/>
          <p:nvPr/>
        </p:nvPicPr>
        <p:blipFill>
          <a:blip r:embed="rId2"/>
          <a:stretch/>
        </p:blipFill>
        <p:spPr>
          <a:xfrm>
            <a:off x="2133720" y="657360"/>
            <a:ext cx="5008320" cy="40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http://1.bp.blogspot.com/_t85Xg4Dg49I/SOJ1bJeMzNI/AAAAAAAAA8k/dhpeDyAiv5Q/s400/Headline%20Crash1.jpg"/>
          <p:cNvPicPr/>
          <p:nvPr/>
        </p:nvPicPr>
        <p:blipFill>
          <a:blip r:embed="rId3"/>
          <a:stretch/>
        </p:blipFill>
        <p:spPr>
          <a:xfrm rot="20909400">
            <a:off x="163440" y="2127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http://www.historicalnews.com/ebay/2012-11-28/Nov2012X28SA19393.jpg"/>
          <p:cNvPicPr/>
          <p:nvPr/>
        </p:nvPicPr>
        <p:blipFill>
          <a:blip r:embed="rId4"/>
          <a:stretch/>
        </p:blipFill>
        <p:spPr>
          <a:xfrm rot="851400">
            <a:off x="6013440" y="6480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www.csa.com/discoveryguides/refugee/images/dustbowl.gif"/>
          <p:cNvPicPr/>
          <p:nvPr/>
        </p:nvPicPr>
        <p:blipFill>
          <a:blip r:embed="rId1"/>
          <a:stretch/>
        </p:blipFill>
        <p:spPr>
          <a:xfrm>
            <a:off x="609480" y="685800"/>
            <a:ext cx="7994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weru.ksu.edu/new_weru/multimedia/dustbowl/big/theb1365.jpg"/>
          <p:cNvPicPr/>
          <p:nvPr/>
        </p:nvPicPr>
        <p:blipFill>
          <a:blip r:embed="rId1"/>
          <a:stretch/>
        </p:blipFill>
        <p:spPr>
          <a:xfrm>
            <a:off x="152280" y="457200"/>
            <a:ext cx="885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1.bp.blogspot.com/_pZO0lOEj1oo/Spwsw6AXWpI/AAAAAAAACcg/bgahCrFLN4k/s400/dust+bowl.jpg"/>
          <p:cNvPicPr/>
          <p:nvPr/>
        </p:nvPicPr>
        <p:blipFill>
          <a:blip r:embed="rId1"/>
          <a:stretch/>
        </p:blipFill>
        <p:spPr>
          <a:xfrm>
            <a:off x="111240" y="533520"/>
            <a:ext cx="888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upload.wikimedia.org/wikipedia/commons/5/5f/Dust_Bowl_Oklahoma.jpg"/>
          <p:cNvPicPr/>
          <p:nvPr/>
        </p:nvPicPr>
        <p:blipFill>
          <a:blip r:embed="rId1"/>
          <a:stretch/>
        </p:blipFill>
        <p:spPr>
          <a:xfrm>
            <a:off x="1447920" y="76320"/>
            <a:ext cx="639288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774800"/>
            <a:ext cx="3886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hotographed migrant families during the Depress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9" name="Picture 2" descr="http://www.lightmediation.net/blog/wp-content/myfotos/lange/00000059082.jpg"/>
          <p:cNvPicPr/>
          <p:nvPr/>
        </p:nvPicPr>
        <p:blipFill>
          <a:blip r:embed="rId2"/>
          <a:stretch/>
        </p:blipFill>
        <p:spPr>
          <a:xfrm>
            <a:off x="4172040" y="1523880"/>
            <a:ext cx="481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ile:Lange-MigrantMother02.jpg"/>
          <p:cNvPicPr/>
          <p:nvPr/>
        </p:nvPicPr>
        <p:blipFill>
          <a:blip r:embed="rId1"/>
          <a:stretch/>
        </p:blipFill>
        <p:spPr>
          <a:xfrm>
            <a:off x="1981080" y="76320"/>
            <a:ext cx="5153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2.bp.blogspot.com/-1wtUfz7uEwQ/TkRgyzEnGlI/AAAAAAAAAFs/PBUWP20-wg8/s1600/great-depression+homeless+4.jpg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://media-cache-ec0.pinimg.com/736x/93/df/32/93df32cd6185b36fac8ed35f5ca756da.jpg"/>
          <p:cNvPicPr/>
          <p:nvPr/>
        </p:nvPicPr>
        <p:blipFill>
          <a:blip r:embed="rId1"/>
          <a:stretch/>
        </p:blipFill>
        <p:spPr>
          <a:xfrm>
            <a:off x="1371600" y="46080"/>
            <a:ext cx="65912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4.bp.blogspot.com/-dljX2q-bGg0/TtYvvOm_bHI/AAAAAAAAO8A/JMlmDLtGANI/s640/dorothea+lange+depression+era+photographs+21.jpg"/>
          <p:cNvPicPr/>
          <p:nvPr/>
        </p:nvPicPr>
        <p:blipFill>
          <a:blip r:embed="rId1"/>
          <a:stretch/>
        </p:blipFill>
        <p:spPr>
          <a:xfrm>
            <a:off x="1371600" y="122400"/>
            <a:ext cx="64263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152640" y="1447560"/>
            <a:ext cx="4576680" cy="540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siness Failures: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1929-32--85,000 closed their doors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er capita income (a year)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68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49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ekly income of a typical worker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29 -- $4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 -- $16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6" name="Picture 5" descr="http://img.bhs4.com/60/c/60c53b028a93dbc3ef6c39cbae0021fc3d40d0f6_large.jpg"/>
          <p:cNvPicPr/>
          <p:nvPr/>
        </p:nvPicPr>
        <p:blipFill>
          <a:blip r:embed="rId2"/>
          <a:stretch/>
        </p:blipFill>
        <p:spPr>
          <a:xfrm>
            <a:off x="4419720" y="17524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47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Unemployment reached 25%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ousands of men left home looking for wor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Picture 5" descr="http://www.doctorhousingbubble.com/wp-content/uploads/2008/05/gdunemployment.gif"/>
          <p:cNvPicPr/>
          <p:nvPr/>
        </p:nvPicPr>
        <p:blipFill>
          <a:blip r:embed="rId2"/>
          <a:stretch/>
        </p:blipFill>
        <p:spPr>
          <a:xfrm>
            <a:off x="388800" y="2654280"/>
            <a:ext cx="8374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-76320" y="1447920"/>
            <a:ext cx="40687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st bank closures occurred in agricultural areas because farmers experienced such poor condition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550 banks went out of business from July 1, 1928, to June 30, 192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m 1929-32 - 9,000 fai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,000,000 accounts wiped out fore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9" name="Picture 6" descr="http://www.doctorhousingbubble.com/wp-content/uploads/2008/07/american_union_bank.gif"/>
          <p:cNvPicPr/>
          <p:nvPr/>
        </p:nvPicPr>
        <p:blipFill>
          <a:blip r:embed="rId2"/>
          <a:stretch/>
        </p:blipFill>
        <p:spPr>
          <a:xfrm>
            <a:off x="3962520" y="1887480"/>
            <a:ext cx="51354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://www.wfu.edu/history/StudentWork/whistory/timeline/namerica/unemployed.jpg"/>
          <p:cNvPicPr/>
          <p:nvPr/>
        </p:nvPicPr>
        <p:blipFill>
          <a:blip r:embed="rId1"/>
          <a:stretch/>
        </p:blipFill>
        <p:spPr>
          <a:xfrm>
            <a:off x="142920" y="304920"/>
            <a:ext cx="88488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1960" y="1733040"/>
            <a:ext cx="3406680" cy="520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Widespread hunger took over the countr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read lines are created where people can get hand-outs of fo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3" name="Picture 5" descr="http://2.bp.blogspot.com/-wljlwtZTTFU/UFuqDVmMvQI/AAAAAAAAc9M/8Ntvtx3cG2M/s1600/hunger+america.png"/>
          <p:cNvPicPr/>
          <p:nvPr/>
        </p:nvPicPr>
        <p:blipFill>
          <a:blip r:embed="rId2"/>
          <a:stretch/>
        </p:blipFill>
        <p:spPr>
          <a:xfrm>
            <a:off x="3352680" y="1790640"/>
            <a:ext cx="5686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2.bp.blogspot.com/_xRraVcfa3GM/SZRG-Kp7e2I/AAAAAAAABxk/Yx1rlaZDSvU/s400/2008-07-15_4_GreatDepression-Blacks-SoupLine.jpg"/>
          <p:cNvPicPr/>
          <p:nvPr/>
        </p:nvPicPr>
        <p:blipFill>
          <a:blip r:embed="rId1"/>
          <a:stretch/>
        </p:blipFill>
        <p:spPr>
          <a:xfrm>
            <a:off x="228600" y="152280"/>
            <a:ext cx="86947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upload.wikimedia.org/wikipedia/commons/thumb/e/e3/US_Unemployment_1890-2011.gif/383px-US_Unemployment_1890-2011.gif"/>
          <p:cNvPicPr/>
          <p:nvPr/>
        </p:nvPicPr>
        <p:blipFill>
          <a:blip r:embed="rId1"/>
          <a:stretch/>
        </p:blipFill>
        <p:spPr>
          <a:xfrm>
            <a:off x="90360" y="1143000"/>
            <a:ext cx="8901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epression-unemployment"/>
          <p:cNvPicPr/>
          <p:nvPr/>
        </p:nvPicPr>
        <p:blipFill>
          <a:blip r:embed="rId1"/>
          <a:stretch/>
        </p:blipFill>
        <p:spPr>
          <a:xfrm>
            <a:off x="76320" y="76320"/>
            <a:ext cx="6319800" cy="5029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america20xy.com/blog6/wp-content/uploads/2011/06/2_great_depression.jpg"/>
          <p:cNvPicPr/>
          <p:nvPr/>
        </p:nvPicPr>
        <p:blipFill>
          <a:blip r:embed="rId2"/>
          <a:stretch/>
        </p:blipFill>
        <p:spPr>
          <a:xfrm>
            <a:off x="3794040" y="2819520"/>
            <a:ext cx="5197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13716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oughly one and a half million were left homeles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included families and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overvilles = makeshift houses that people made of whatever materials they could g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2362320" y="3452760"/>
            <a:ext cx="4419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://media-cache-ak0.pinimg.com/736x/1a/2e/03/1a2e033f47f61ae6e37d4236345e0955.jpg"/>
          <p:cNvPicPr/>
          <p:nvPr/>
        </p:nvPicPr>
        <p:blipFill>
          <a:blip r:embed="rId1"/>
          <a:stretch/>
        </p:blipFill>
        <p:spPr>
          <a:xfrm>
            <a:off x="152280" y="76320"/>
            <a:ext cx="88124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nuttyhistory.com/uploads/1/2/1/5/12150034/8974008_orig.jpg?1"/>
          <p:cNvPicPr/>
          <p:nvPr/>
        </p:nvPicPr>
        <p:blipFill>
          <a:blip r:embed="rId1"/>
          <a:stretch/>
        </p:blipFill>
        <p:spPr>
          <a:xfrm>
            <a:off x="76320" y="514440"/>
            <a:ext cx="90169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truthalyzer.com/wp-content/themes/tent-city1.jpg"/>
          <p:cNvPicPr/>
          <p:nvPr/>
        </p:nvPicPr>
        <p:blipFill>
          <a:blip r:embed="rId1"/>
          <a:stretch/>
        </p:blipFill>
        <p:spPr>
          <a:xfrm>
            <a:off x="52560" y="609480"/>
            <a:ext cx="890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-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st Bow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ffected the Great Plai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932; Drought struc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ust st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ny moved west to California but remained homeless and po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ohn Steinbec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merican auth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ote about the troubles of farmers in his book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he Grapes of Wra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 rot="599400">
            <a:off x="5627160" y="1752120"/>
            <a:ext cx="30229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17:38Z</dcterms:created>
  <dc:creator>LATHOMPS</dc:creator>
  <dc:description/>
  <dc:language>en-US</dc:language>
  <cp:lastModifiedBy>Vickie J. Dean</cp:lastModifiedBy>
  <dcterms:modified xsi:type="dcterms:W3CDTF">2014-02-18T22:19:17Z</dcterms:modified>
  <cp:revision>9</cp:revision>
  <dc:subject/>
  <dc:title>Great Depression in America</dc:title>
</cp:coreProperties>
</file>